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Power Point Blend HORIZ GRAY copy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Cla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teur Radi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censing Cour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urce Materials and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d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neral Class License M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tific calculator that you know how to use (minimum requirements: take a square root and logs to base 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fee:  $14.00 at time of exa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You Can Expect From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ill conduct each class to the best of my 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ill start and end class on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are extenuating circumstances that prevent me from conducting the class I will make every effort to let you kn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ill come to class prepared and motiv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Expect From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you have a desire to achieve the General Class lice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attend class regular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come to class well read and ready to learn and particip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not get so frustrated that you give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PASS THE EXAMS WITH 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Become a General Class Operat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HF frequencies and modes of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wide communications cap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your technical and operating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it’s there to achi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1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93396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Greater Privileg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international commun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near band and sub band ed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in bands with shared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beyond channelized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flexible mode cho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ment more compl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procedures for proper operation more compl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Greater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rigorous technical knowledge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 equipment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ing signal within band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ing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ment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rigorous operational knowledge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be heard around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be heard by other professional spectrum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represent the United States while on the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hams will look to you to set th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equir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 question written exam covering technical concepts, operating techniques, and rules and 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se code is no longer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es to Gaining a Lic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ting by” to pass the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only the exam questions and answers just to pass the 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is is your approach … then you are 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how to operate an Amateur Radio station proper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the requisite materials and know the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the exam to prove to others that yo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now your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is is what you want … then you are in th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cal Exa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erial will be covered in the sequence provided in the b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are expected to read the material befor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e to ask questions to help clarify rea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cover each and every topic to be tes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ill cover the major high points, most difficult concepts, what is needed to be a safe and competent General Class h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ill answer your questions to the best of my 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will start on time, we will end on time (after-class questions and discussions encouraged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pect lecture/discussion format … don’t be afraid to ask questions. I’ll try and not be afraid to answer (if I can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7:34:31Z</dcterms:created>
  <dc:creator>Jerry Hill</dc:creator>
  <dc:description/>
  <dc:language>en-US</dc:language>
  <cp:lastModifiedBy>Lspringer</cp:lastModifiedBy>
  <dcterms:modified xsi:type="dcterms:W3CDTF">2011-07-21T03:46:27Z</dcterms:modified>
  <cp:revision>13</cp:revision>
  <dc:subject/>
  <dc:title>Amateur General Class Licensing Class</dc:title>
</cp:coreProperties>
</file>