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Power Point Blend HORIZ GRAY copy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and Reg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interference (thunderstor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-made (appliances and power lin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erence from nearby sig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ams or other users of the frequ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operators should prevent interfering with other users of the frequen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enting 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mmon sense and courte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equipment in proper operating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owns a frequency, be a good neighbor and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 to special operations and special circum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erence that is disruptive but not intent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 with it as best you can and help others avoid harmful inter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ntionally causing inter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becomes a legal and law enforcement iss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rare and there are procedures to deal with this (ARRL Official Observers can hel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-Party 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-party means that a non-ham is involved in communication via ham ra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actually speaking on the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passing a message on behalf of the non-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ituations – different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the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that crosses international b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-Party Within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peci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make sure the message is non-commercial in n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-Party Across B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that third-party agreement ex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for current third-party agreements from FCC sources if in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ight be surprised at the countries that we do not have third-party agreements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station identification say both stations’ call sig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te and Automatic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tations, repeaters and beacons operate without the control operator physically present at the control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tations must still comply with control operator stipu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hibited Trans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dentified transmi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t giving your call si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or deceptive sig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ing someone else’s call si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distress or emergency sig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ake calls for hel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cene or indecent spee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p to interpre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Business 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make a profit through the use of transmissions made via ham ra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ception is teachers using ham radio in their classro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Encrypted Trans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involves encoding information for transmission that must be decoded upon reception to interpret the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okay i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ing is open sou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ntion is not to hide the message or dece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ed for control of satellite or RC vech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s up international rules and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 is in Reg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9 to 4 MHz and 7.2 to 7.3 MHz Region 2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ers rules for Am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ateur Auxiliary Volunteers monitor bands to encourage self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notify if Tower is over 200ft AG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rules id &gt;4 miles from air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Broadca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casting is sending one-way transmissions with no expectation of getting a respo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prac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m radio related bullet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transmission of shuttle commun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Circum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 communication is generally intended for h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ergencies and critical situations create special circum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ommemorative events may qualify as special circum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rules return when the situation returns to nor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e in conformance with good engineering and amateur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1500 W PEP Maxi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30 Meters 200W PEP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60 Meters 50W ERP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inimum power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RP – low power operations &lt;5 to 10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Trans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Symbol Rates &amp; Band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28 MHz 300 baud &amp; 1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meters 1200 baud &amp; 1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&amp; 2 meters 19.6kbaud &amp; 20 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5 m &amp; 70 cm 56kbaud &amp; 100 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3cm &amp; above no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z Key 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 3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B01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2E03 –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2D01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2D02 –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PG 3-2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2D03 –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 3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D01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D02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D03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D04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z Ke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PG 3-3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D05 – A B 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D06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D07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D08 –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D09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D10 –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PG 3-4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E09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 3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A01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A02 –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A03 –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A04 – A B 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A05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z Ke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PG 3-5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A06 – A B 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A07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A08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A09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A10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A11 – A B 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PG 3-6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A12 –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A13 – A B 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A14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A15 – A B 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B02 – A B 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B03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z Key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PG 3-7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B05 – A B 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B06 –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B07 –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B09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B10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E01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PG 3-8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E02 – A B 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E04 – A B 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E05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E06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C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E07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z Key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PG 3-9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E08 –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E10 – A B 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2D05 –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2D07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 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B11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PG 3-10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B12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C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C01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C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C02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C03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C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C04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C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C05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st Importan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Operator Responsi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CC’s primary concern is that transmissions are made only under the control of a licensed op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Operator – the licensed amateur responsible for making sure transmissions comply with FCC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z Key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PG 3-11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C06 – A B 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C07 – A B 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C08 – A B 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C09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C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C10 – A B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1C11 –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PG 3-12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2D10 –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cen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s administered by &gt;3 VEs accredited by a V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 must be 18 or older and hold General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Class VE may administer Technician Ex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Class VE may administer any ex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a Tech License and pass El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receive CSCE valid for 365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immediately use new previl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perating in the General segments identify as Call/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have a valid FCC issued Amateur Radio lic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on must operate within the authorization of the control operator’s lic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operator must be present at the control point of the station (the on-off switch) or remotely connected by a control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es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licensed people can use a ham radio but only when a control operator is 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rol operator is solely responsible for station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ensed guests can use the ham ra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both the control operator and the guest ham are responsible for station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on Identification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 your call sign every ten minutes during and at the end of the contact (QS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Tactical Call 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substitute for proper station 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1" descr=""/>
          <p:cNvPicPr/>
          <p:nvPr/>
        </p:nvPicPr>
        <p:blipFill>
          <a:blip r:embed="rId1"/>
          <a:stretch/>
        </p:blipFill>
        <p:spPr>
          <a:xfrm>
            <a:off x="423720" y="284040"/>
            <a:ext cx="81867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transmitter help understand propa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Power 100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ore that one on a band at a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4:19:34Z</dcterms:created>
  <dc:creator>DSZLACHETKA</dc:creator>
  <dc:description/>
  <dc:language>en-US</dc:language>
  <cp:lastModifiedBy>Lspringer</cp:lastModifiedBy>
  <dcterms:modified xsi:type="dcterms:W3CDTF">2011-09-27T03:46:38Z</dcterms:modified>
  <cp:revision>26</cp:revision>
  <dc:subject/>
  <dc:title>PowerPoint Presentation</dc:title>
</cp:coreProperties>
</file>