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6AB1-F6A7-4D53-9D2B-365A2F326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A19B-1BFF-4666-AE4F-4F0BE8BC52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 Technician Class (Element 2) Master sylla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d 1 February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6 questions in 35 s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lides are free to use and are available from http://www.microhams.com.  Changes are allowed if Microhams branding is left in place (feel free to ad your own).  Any content additions should be forwarded to the author, Scott N7SS at N7SS@arrl.net so they can be rolled into future versions and available for every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DC73-0FD8-4CD8-98DC-E480D62C15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CC has mandated the areas colored (other than blue) to specific purposes.  The remaining areas are divided by the amateur community into a band plan to insure most effective use of the spectrum and minimize interference.  This band plan is not law but voluntary.  If the FCC does get involved in a dispute, they will use the local band plan as a means to resolve the dispu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FD01-55B9-4C00-82D4-970459D2E6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national band plan.  Note that Western Washington uses a different split on 6 m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603D-80BF-40E6-BBA8-4A085F8538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ham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by Scott N7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2907-3AC3-4022-A0B6-8E4F31058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4920" y="4182840"/>
            <a:ext cx="8534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E08A-EC3E-4520-A28F-B68EBFEB7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492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784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91CE-5C7A-4FBF-BCC1-9E2765DA4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90680" y="205740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6080" y="205740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4920" y="418284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90680" y="418284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6080" y="418284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2242-1C6F-4B0B-A27F-C092D3B21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DFEB7-6461-4DBE-BE75-07323F44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1554D-DDD3-475C-8671-45D86174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DC638-8876-4995-992C-69F60F77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828EB-EC2B-4C90-BBB6-FD9B2F21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10B4D-95EC-40B5-9530-4F9B6079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304920"/>
            <a:ext cx="85341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23F62-BC90-4C26-B6DD-731481C2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71421-05FC-424F-A8EE-7CB058C1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C3C2-D557-413B-ADA3-853FD1A4C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784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E5103-ED51-4128-90C2-9663D183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4182840"/>
            <a:ext cx="8534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24190-713D-4C5B-80C7-50ED6388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4182840"/>
            <a:ext cx="8534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2D4D8-67D1-4D31-BE58-0E2F041A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784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BE396-2FE4-49B1-97AD-70AB04B8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90680" y="205740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6080" y="205740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418284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90680" y="418284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6080" y="4182840"/>
            <a:ext cx="27478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C2BB3-942B-4168-8141-3910854F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529F-DA86-4006-B3DE-3A60E9290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6D82-D38F-41B0-8AF7-6C4723914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357AA-36C0-4481-91C5-F38462BA3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04920" y="304920"/>
            <a:ext cx="85341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31A2-73B8-4FBD-A747-012FDD1FF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D520-340B-4D68-A396-F788F530F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7840" y="418284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A61E-B7A8-4275-8BFC-40A55D392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2057400"/>
            <a:ext cx="41644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182840"/>
            <a:ext cx="8534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D8F5-02E5-47FB-B4BB-5481D41C6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EFC3-F22E-4210-9E46-6901D4D827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Group 4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8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04560" y="6248160"/>
            <a:ext cx="5715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58" name="Picture 16" descr="MicroHAMS"/>
          <p:cNvPicPr/>
          <p:nvPr/>
        </p:nvPicPr>
        <p:blipFill>
          <a:blip r:embed="rId2"/>
          <a:stretch/>
        </p:blipFill>
        <p:spPr>
          <a:xfrm>
            <a:off x="4876920" y="5562720"/>
            <a:ext cx="3551040" cy="633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283C-37A2-47E5-8084-6DD1DEA3BE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UBELEMENT T2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[3 Exam Questions - 3 Groups]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ng Procedur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0866-5924-48CE-B696-18B597FA08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A02 What is the national calling frequency for FM simplex operations in the 70 cm ba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6.520 M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5.000 M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32.100 M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446.000 MHz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60A8-CD92-4C71-8C29-C9FAC6765C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A03 What is a common repeater frequency offset in the 70 cm ba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us or minus 5 M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us or minus 6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us 6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us 6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F151-C11F-4966-AA3B-F660DD4756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A03 What is a common repeater frequency offset in the 70 cm ba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lus or minus 5 MHz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us or minus 6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us 6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us 6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D431-9F5B-4F13-98FA-BC50FE0EB6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A04 What is an appropriate way to call another station on a repeater if you know the other station's call sig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y "break, break" then say the station's call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y the station's call sign then identify with your call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y "CQ" three times then the other station's call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it for the station to call "CQ" then answer 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9F63-D924-41AD-99FF-227FB3648C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A04 What is an appropriate way to call another station on a repeater if you know the other station's call sig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y "break, break" then say the station's call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ay the station's call sign then identify with your call sig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y "CQ" three times then the other station's call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it for the station to call "CQ" then answer 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A8B3-FD42-4483-87F7-7CA670346D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A05 What should you transmit when responding to a call of CQ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Q followed by the other station's call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call sign followed by the other station's call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ther station's call sign followed by your call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ignal report followed by your call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6F30-4D1C-4967-A2A8-B91389CF97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A05 What should you transmit when responding to a call of CQ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Q followed by the other station's call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call sign followed by the other station's call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he other station's call sign followed by your call sig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ignal report followed by your call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F2AB-15A1-4E8F-835A-78AFAB1A14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A06 What must an amateur operator do when making on-air transmissions to test equipment or antenn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erly identify the transmitting s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e test transmissions only after 10:00 p.m. local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ify the FCC of the test transmi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 the purpose of the test during the test proced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DF36-4271-422E-A599-39D75F1886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A06 What must an amateur operator do when making on-air transmissions to test equipment or antenn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roperly identify the transmitting sta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e test transmissions only after 10:00 p.m. local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ify the FCC of the test transmi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 the purpose of the test during the test proced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DBE7-A54C-4FA5-90A9-FED8602686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A07 Which of the following is true when making a test transmis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on identification is not required if the transmission is less than 15 seco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on identification is not required if the transmission is less than 1 wat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on identification is required only if your station can be hea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on identification is required at least every ten minutes during the test and at the 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C9B8-B9AC-4778-B3A8-3C113E54F1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 – Operating Proced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2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Station operation; choosing an operating frequency, calling another station, test transmissions, use of minimum power, frequency use, band plan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2B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VHF/UHF operating practices; SSB phone, FM repeater, simplex, frequency offsets, splits and shifts, CTCSS, DTMF, tone squelch, carrier squelch, phonetic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2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Public service; emergency and non-emergency operations, message traffic handling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0C4A-4496-4CDA-9D6F-93408E9068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A07 Which of the following is true when making a test transmis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on identification is not required if the transmission is less than 15 seco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on identification is not required if the transmission is less than 1 wat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on identification is required only if your station can be hea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tation identification is required at least every ten minutes during the test and at the end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D26D-090E-4D35-9475-CF07D6C35B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A08 What is the meaning of the procedural signal "CQ"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 on the quarter ho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new antenna is being tested (no station should answ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the called station should transm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ing any s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59E8-3869-492F-A329-16B7A65551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A08 What is the meaning of the procedural signal "CQ"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 on the quarter ho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new antenna is being tested (no station should answ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the called station should transm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alling any sta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C8E8-E17F-4D3A-BA08-41CC418C7B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A09 What brief statement is often used in place of "CQ" to indicate that you are listening on a repe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y "Hello test" followed by your call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y your call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y the repeater call sign followed by your call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y the letters "QSY" followed by your call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2DCA-7831-4AAA-BE2A-F810205A3F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A09 What brief statement is often used in place of "CQ" to indicate that you are listening on a repe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y "Hello test" followed by your call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ay your call sig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y the repeater call sign followed by your call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y the letters "QSY" followed by your call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987D-F04E-4C1E-A1BE-858D3FDA9A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A10 What is a band plan, beyond the privileges established by the FCC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voluntary guideline for using different modes or activities within an amateur b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mandated list of operating sched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ist of scheduled net frequenc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lan devised by a club to use a frequency band during a cont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rating Practic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403F-C93F-45A9-B807-13FFAA40BF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WordArt 2"/>
          <p:cNvSpPr txBox="1"/>
          <p:nvPr/>
        </p:nvSpPr>
        <p:spPr>
          <a:xfrm>
            <a:off x="7543800" y="1353960"/>
            <a:ext cx="4572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3c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39" name="WordArt 3"/>
          <p:cNvSpPr txBox="1"/>
          <p:nvPr/>
        </p:nvSpPr>
        <p:spPr>
          <a:xfrm>
            <a:off x="7543800" y="2071800"/>
            <a:ext cx="4572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3c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40" name="WordArt 4"/>
          <p:cNvSpPr txBox="1"/>
          <p:nvPr/>
        </p:nvSpPr>
        <p:spPr>
          <a:xfrm>
            <a:off x="7543800" y="2865600"/>
            <a:ext cx="4572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70c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41" name="WordArt 5"/>
          <p:cNvSpPr txBox="1"/>
          <p:nvPr/>
        </p:nvSpPr>
        <p:spPr>
          <a:xfrm>
            <a:off x="7543800" y="3932280"/>
            <a:ext cx="4572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.25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42" name="WordArt 6"/>
          <p:cNvSpPr txBox="1"/>
          <p:nvPr/>
        </p:nvSpPr>
        <p:spPr>
          <a:xfrm>
            <a:off x="7543800" y="4770360"/>
            <a:ext cx="4572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43" name="WordArt 7"/>
          <p:cNvSpPr txBox="1"/>
          <p:nvPr/>
        </p:nvSpPr>
        <p:spPr>
          <a:xfrm>
            <a:off x="7543800" y="5638680"/>
            <a:ext cx="4572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14480" y="30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1219320" y="38016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14480"/>
                <a:tab algn="ctr" pos="633240"/>
                <a:tab algn="ctr" pos="354348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  <a:tab algn="ctr" pos="1039240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300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310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390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450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447920" y="582480"/>
          <a:ext cx="6011640" cy="427320"/>
        </p:xfrm>
        <a:graphic>
          <a:graphicData uri="http://schemas.openxmlformats.org/drawingml/2006/table">
            <a:tbl>
              <a:tblPr/>
              <a:tblGrid>
                <a:gridCol w="525240"/>
                <a:gridCol w="2857680"/>
                <a:gridCol w="26287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sp>
        <p:nvSpPr>
          <p:cNvPr id="247" name="Rectangle 20"/>
          <p:cNvSpPr/>
          <p:nvPr/>
        </p:nvSpPr>
        <p:spPr>
          <a:xfrm>
            <a:off x="1219320" y="970920"/>
            <a:ext cx="629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  <a:tab algn="ctr" pos="10392408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  <a:tab algn="ctr" pos="1039240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240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300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114480" y="307800"/>
            <a:ext cx="914400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447920" y="1371600"/>
          <a:ext cx="6011640" cy="426960"/>
        </p:xfrm>
        <a:graphic>
          <a:graphicData uri="http://schemas.openxmlformats.org/drawingml/2006/table">
            <a:tbl>
              <a:tblPr/>
              <a:tblGrid>
                <a:gridCol w="6011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sp>
        <p:nvSpPr>
          <p:cNvPr id="250" name="Rectangle 28"/>
          <p:cNvSpPr/>
          <p:nvPr/>
        </p:nvSpPr>
        <p:spPr>
          <a:xfrm>
            <a:off x="11448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257480"/>
                <a:tab algn="ctr" pos="2400480"/>
                <a:tab algn="ctr" pos="38862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  <a:tab algn="ctr" pos="10392408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Rectangle 29"/>
          <p:cNvSpPr/>
          <p:nvPr/>
        </p:nvSpPr>
        <p:spPr>
          <a:xfrm>
            <a:off x="1219320" y="1732680"/>
            <a:ext cx="625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  <a:tab algn="ctr" pos="10392408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  <a:tab algn="ctr" pos="103924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90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92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Rectangle 30"/>
          <p:cNvSpPr/>
          <p:nvPr/>
        </p:nvSpPr>
        <p:spPr>
          <a:xfrm>
            <a:off x="114480" y="307800"/>
            <a:ext cx="914400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447920" y="2133720"/>
          <a:ext cx="6011640" cy="426960"/>
        </p:xfrm>
        <a:graphic>
          <a:graphicData uri="http://schemas.openxmlformats.org/drawingml/2006/table">
            <a:tbl>
              <a:tblPr/>
              <a:tblGrid>
                <a:gridCol w="6011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sp>
        <p:nvSpPr>
          <p:cNvPr id="254" name="Rectangle 37"/>
          <p:cNvSpPr/>
          <p:nvPr/>
        </p:nvSpPr>
        <p:spPr>
          <a:xfrm>
            <a:off x="1219320" y="2475720"/>
            <a:ext cx="625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654200"/>
                <a:tab algn="l" pos="2293920"/>
                <a:tab algn="l" pos="3090960"/>
                <a:tab algn="ctr" pos="39495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  <a:tab algn="ctr" pos="10392408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654200"/>
                <a:tab algn="l" pos="2293920"/>
                <a:tab algn="l" pos="3090960"/>
                <a:tab algn="ctr" pos="39495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  <a:tab algn="ctr" pos="1039240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42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43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435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438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450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Rectangle 38"/>
          <p:cNvSpPr/>
          <p:nvPr/>
        </p:nvSpPr>
        <p:spPr>
          <a:xfrm>
            <a:off x="114480" y="307800"/>
            <a:ext cx="914400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447920" y="2895480"/>
          <a:ext cx="6019560" cy="457200"/>
        </p:xfrm>
        <a:graphic>
          <a:graphicData uri="http://schemas.openxmlformats.org/drawingml/2006/table">
            <a:tbl>
              <a:tblPr/>
              <a:tblGrid>
                <a:gridCol w="1542960"/>
                <a:gridCol w="771480"/>
                <a:gridCol w="849240"/>
                <a:gridCol w="28558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Tahoma"/>
                          <a:ea typeface="Times New Roman"/>
                        </a:rPr>
                        <a:t>Not Available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Tahoma"/>
                          <a:ea typeface="Times New Roman"/>
                        </a:rPr>
                        <a:t>North of Line 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Tahoma"/>
                          <a:ea typeface="Times New Roman"/>
                        </a:rPr>
                        <a:t>Satelli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sp>
        <p:nvSpPr>
          <p:cNvPr id="257" name="Rectangle 51"/>
          <p:cNvSpPr/>
          <p:nvPr/>
        </p:nvSpPr>
        <p:spPr>
          <a:xfrm>
            <a:off x="1220400" y="3656880"/>
            <a:ext cx="62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4360"/>
                <a:tab algn="l" pos="257184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  <a:tab algn="ctr" pos="1039240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1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2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22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25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114480" y="307800"/>
            <a:ext cx="914400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Rectangle 53"/>
          <p:cNvSpPr/>
          <p:nvPr/>
        </p:nvSpPr>
        <p:spPr>
          <a:xfrm>
            <a:off x="114480" y="438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257480"/>
                <a:tab algn="ctr" pos="2400480"/>
                <a:tab algn="ctr" pos="38862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  <a:tab algn="ctr" pos="10392408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Rectangle 54"/>
          <p:cNvSpPr/>
          <p:nvPr/>
        </p:nvSpPr>
        <p:spPr>
          <a:xfrm>
            <a:off x="1219320" y="4312440"/>
            <a:ext cx="625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ctr" pos="320832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  <a:tab algn="ctr" pos="10392408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5120"/>
                <a:tab algn="ctr" pos="320832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  <a:tab algn="ctr" pos="1039240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44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44.1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4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Rectangle 55"/>
          <p:cNvSpPr/>
          <p:nvPr/>
        </p:nvSpPr>
        <p:spPr>
          <a:xfrm>
            <a:off x="114480" y="307800"/>
            <a:ext cx="914400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447920" y="4738680"/>
          <a:ext cx="6019560" cy="426960"/>
        </p:xfrm>
        <a:graphic>
          <a:graphicData uri="http://schemas.openxmlformats.org/drawingml/2006/table">
            <a:tbl>
              <a:tblPr/>
              <a:tblGrid>
                <a:gridCol w="457200"/>
                <a:gridCol w="55623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Tahoma"/>
                        </a:rPr>
                        <a:t>C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sp>
        <p:nvSpPr>
          <p:cNvPr id="263" name="Rectangle 64"/>
          <p:cNvSpPr/>
          <p:nvPr/>
        </p:nvSpPr>
        <p:spPr>
          <a:xfrm>
            <a:off x="114480" y="527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257480"/>
                <a:tab algn="ctr" pos="2400480"/>
                <a:tab algn="ctr" pos="38862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  <a:tab algn="ctr" pos="10392408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Rectangle 65"/>
          <p:cNvSpPr/>
          <p:nvPr/>
        </p:nvSpPr>
        <p:spPr>
          <a:xfrm>
            <a:off x="1219320" y="5220720"/>
            <a:ext cx="621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ctr" pos="27432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  <a:tab algn="ctr" pos="10392408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5120"/>
                <a:tab algn="ctr" pos="27432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  <a:tab algn="ctr" pos="1039240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5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50.1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5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Rectangle 66"/>
          <p:cNvSpPr/>
          <p:nvPr/>
        </p:nvSpPr>
        <p:spPr>
          <a:xfrm>
            <a:off x="114480" y="307800"/>
            <a:ext cx="914400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Rectangle 67"/>
          <p:cNvSpPr/>
          <p:nvPr/>
        </p:nvSpPr>
        <p:spPr>
          <a:xfrm>
            <a:off x="1477800" y="6152400"/>
            <a:ext cx="561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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No Code Technicians Have All Privileges On The Above Bands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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WordArt 68"/>
          <p:cNvSpPr txBox="1"/>
          <p:nvPr/>
        </p:nvSpPr>
        <p:spPr>
          <a:xfrm>
            <a:off x="7543800" y="609480"/>
            <a:ext cx="4572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3c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447920" y="3900600"/>
          <a:ext cx="6019560" cy="457200"/>
        </p:xfrm>
        <a:graphic>
          <a:graphicData uri="http://schemas.openxmlformats.org/drawingml/2006/table">
            <a:tbl>
              <a:tblPr/>
              <a:tblGrid>
                <a:gridCol w="1311120"/>
                <a:gridCol w="1235160"/>
                <a:gridCol w="34732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Tahoma"/>
                        </a:rPr>
                        <a:t>Point to Point Digital Link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1447920" y="5638680"/>
          <a:ext cx="6019560" cy="427320"/>
        </p:xfrm>
        <a:graphic>
          <a:graphicData uri="http://schemas.openxmlformats.org/drawingml/2006/table">
            <a:tbl>
              <a:tblPr/>
              <a:tblGrid>
                <a:gridCol w="457200"/>
                <a:gridCol w="55623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Tahoma"/>
                        </a:rPr>
                        <a:t>C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sp>
        <p:nvSpPr>
          <p:cNvPr id="270" name="Text Box 87"/>
          <p:cNvSpPr/>
          <p:nvPr/>
        </p:nvSpPr>
        <p:spPr>
          <a:xfrm>
            <a:off x="1447920" y="332280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70cm - 5 MHz repeater frequency separation (Split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Text Box 88"/>
          <p:cNvSpPr/>
          <p:nvPr/>
        </p:nvSpPr>
        <p:spPr>
          <a:xfrm>
            <a:off x="1447920" y="5105520"/>
            <a:ext cx="60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m -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00 kHz repeater frequency separation (Split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FBC8-0C8B-4E35-A435-14A2957728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A10 What is a band plan, beyond the privileges established by the FCC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 voluntary guideline for using different modes or activities within an amateur band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mandated list of operating sched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ist of scheduled net frequenc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lan devised by a club to use a frequency band during a cont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4E8E-B081-4023-8CA9-801D428B43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A11 What are the FCC rules regarding power levels used in the amateur ban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ways use the maximum power allowed to ensure that you complete the conta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mateur may use no more than 200 watts PEP to make an amateur conta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mateur may use up to 1500 watts PEP on any amateur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mateur must use the minimum transmitter power necessary to carry out the desired commun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4DC4-F767-4A16-9E68-FFE7EA187E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A11 What are the FCC rules regarding power levels used in the amateur ban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ways use the maximum power allowed to ensure that you complete the conta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mateur may use no more than 200 watts PEP to make an amateur conta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mateur may use up to 1500 watts PEP on any amateur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n amateur must use the minimum transmitter power necessary to carry out the desired communica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rating Practic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2DD7-9F90-4A02-962D-C1E73182FF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Abbrevi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Q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 Any Station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R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ability, Signal Strength, Tone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ance, foreign country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7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Regard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, this i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T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sh To Talk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ice Activated Switch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B79C-3144-4889-98EB-F32917F9D9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B01 What is the term used to describe an amateur station that is transmitting and receiving on the same frequenc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duplex commun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plex commun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plex commun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lf duplex commun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2703-498E-47D0-B9F7-4BE68DB63E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B01 What is the term used to describe an amateur station that is transmitting and receiving on the same frequenc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duplex commun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plex commun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implex communica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lf duplex commun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0D50-E1B0-4164-8E15-3241E86884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B02 What is the term used to describe the use of a sub-audible tone transmitted with normal voice audio to open the squelch of a receiv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rier squel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ne bur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M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TC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59AD-75CA-4A6F-B1C2-9F4B75D748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B02 What is the term used to describe the use of a sub-audible tone transmitted with normal voice audio to open the squelch of a receiv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rier squel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ne bur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M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TCS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AA40-004D-4C26-A233-14C8E4B8C5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B03 Which of the following describes the muting of receiver audio controlled solely by the presence or absence of an RF sign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ne squel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rier squel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TC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ulated carr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C975-D492-4478-A0E9-D37F3FD0DE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B03 Which of the following describes the muting of receiver audio controlled solely by the presence or absence of an RF sign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ne squel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arrier squelch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TC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ulated carr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959C-A748-4FA6-84CC-FDA9EB3CC9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B04 Which of the following common problems might cause you to be able to hear but not access a repeater even when transmitting with the proper offs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peater receiver requires audio tone burst for ac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peater receiver requires a CTCSS tone for ac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peater receiver may require a DCS tone sequence for ac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of these choices are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CA67-2B9E-482A-9F99-DDBD142482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B04 Which of the following common problems might cause you to be able to hear but not access a repeater even when transmitting with the proper offs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peater receiver requires audio tone burst for ac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peater receiver requires a CTCSS tone for ac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peater receiver may require a DCS tone sequence for ac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ll of these choices are correc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C081-92CA-4883-B231-23D7337A85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B05 What determines the amount of deviation of an FM sign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th the frequency and amplitude of the modulating sig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requency of the modulating sig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amplitude of the modulating sig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lative phase of the modulating signal and the carr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29C5-789D-4E91-97EC-8EE83C4E71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B05 What determines the amount of deviation of an FM sign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th the frequency and amplitude of the modulating sig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requency of the modulating sig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he amplitude of the modulating signal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lative phase of the modulating signal and the carr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rating Practic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3804-96D5-44EB-9BFE-8CFD34C207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U Phonetic Alphab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85800" y="1066680"/>
            <a:ext cx="335268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reed upon words to represent the letters of the “roman alphabet”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dfaced syllables are emphasized.  The pronunciations shown in this table were designed for those who speak any of the international language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onunciations given for “Oscar”, “Papa” and “Victor” may seem awkward to English-speaking people in the U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495680" y="838080"/>
            <a:ext cx="44197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lfa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L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FAH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ravo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BRAH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VOH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harlie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HAR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LEE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elta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DELL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TAH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cho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CK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H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oxtrot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KS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TROT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lf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LF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tel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H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EL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dia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DEE AH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J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Juliet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JEW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LEE ETT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ilo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KE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LOH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ima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EE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MAH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ike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IKE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ovember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O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VEM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BER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scar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SS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CAH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pa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H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AH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Quebec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EH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BECK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omeo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ROW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ME OH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ierra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E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AIR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RAH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ngo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ANG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GO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niform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YOU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NEE FORM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ictor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VIK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H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hiske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WISS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KEY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X-Ra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CKS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RAY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ankee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YANG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KEY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ulu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ZOO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LOO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8C85-3477-43C7-82BC-9EB6469431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B06 What happens when the deviation of an FM transmitter is increas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s signal occupies more bandwid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s output power incre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s output power and bandwidth incre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modulation occu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5CE8-8B92-47A0-9091-0267DF8F50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B06 What happens when the deviation of an FM transmitter is increas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Its signal occupies more bandwidth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s output power incre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s output power and bandwidth incre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modulation occu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1829-C898-4C34-9242-B2C27734FC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B07 What should you do if you receive a report that your station's transmissions are causing splatter or interference on nearby frequenc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ase transmit pow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mode of transmi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ort the interference to the equipment manufactur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ck your transmitter for off-frequency operation or spurious emis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A762-BA74-45C0-BAED-6D0A3CFF6B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B07 What should you do if you receive a report that your station's transmissions are causing splatter or interference on nearby frequenc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ase transmit pow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mode of transmi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ort the interference to the equipment manufactur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heck your transmitter for off-frequency operation or spurious emission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887C-1D1A-4AAC-8522-C0DBEBB188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B08 What is the proper course of action if your station's transmission unintentionally interferes with another s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tate your antenna sligh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erly identify your transmission and move to a different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ase pow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antenna polar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168A-41D3-4CBB-BEE4-9404A87090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B08 What is the proper course of action if your station's transmission unintentionally interferes with another s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tate your antenna sligh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roperly identify your transmission and move to a different frequency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ase pow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antenna polar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3531-AC28-4510-9C97-BF657A1106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B09 Which of the following methods is encouraged by the FCC when identifying your station when using pho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of a phonetic alphab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d your call sign in CW as well as vo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eat your call sign three ti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ase your signal to full power when identify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2199-4A9C-42E6-9534-E47531831A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B09 Which of the following methods is encouraged by the FCC when identifying your station when using pho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Use of a phonetic alphabe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d your call sign in CW as well as vo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eat your call sign three ti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ase your signal to full power when identify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27D6-C6E4-4EA0-81E5-08319CD6B7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B10 What is the "Q" signal used to indicate that you are receiving interference from other st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R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S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18F4-8179-4B44-A29E-0B444E049E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B10 What is the "Q" signal used to indicate that you are receiving interference from other st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QRM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R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S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ion Setup and Oper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C1A7-AA6E-4B13-BDF5-D5014A6F9E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er 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6278400" y="4764240"/>
            <a:ext cx="1086120" cy="1285560"/>
          </a:xfrm>
          <a:prstGeom prst="rtTriangl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5472000" y="2693880"/>
            <a:ext cx="833400" cy="2089080"/>
          </a:xfrm>
          <a:prstGeom prst="rtTriangl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AutoShape 5"/>
          <p:cNvSpPr/>
          <p:nvPr/>
        </p:nvSpPr>
        <p:spPr>
          <a:xfrm rot="16200000">
            <a:off x="4011480" y="2068560"/>
            <a:ext cx="501840" cy="1117440"/>
          </a:xfrm>
          <a:prstGeom prst="rtTriangl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6"/>
          <p:cNvSpPr/>
          <p:nvPr/>
        </p:nvSpPr>
        <p:spPr>
          <a:xfrm rot="16200000">
            <a:off x="2260440" y="3387600"/>
            <a:ext cx="1920960" cy="968400"/>
          </a:xfrm>
          <a:prstGeom prst="rtTriangl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7"/>
          <p:cNvSpPr/>
          <p:nvPr/>
        </p:nvSpPr>
        <p:spPr>
          <a:xfrm rot="16200000">
            <a:off x="1397160" y="4698720"/>
            <a:ext cx="1168200" cy="1501560"/>
          </a:xfrm>
          <a:prstGeom prst="rtTriangl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700360" y="4780080"/>
            <a:ext cx="3625920" cy="12524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3703680" y="2878200"/>
            <a:ext cx="1787400" cy="1971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622760" y="2643120"/>
            <a:ext cx="901800" cy="3510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11"/>
          <p:cNvSpPr/>
          <p:nvPr/>
        </p:nvSpPr>
        <p:spPr>
          <a:xfrm flipV="1">
            <a:off x="1447920" y="4800240"/>
            <a:ext cx="1295280" cy="1066680"/>
          </a:xfrm>
          <a:prstGeom prst="line">
            <a:avLst/>
          </a:prstGeom>
          <a:ln w="507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12"/>
          <p:cNvSpPr/>
          <p:nvPr/>
        </p:nvSpPr>
        <p:spPr>
          <a:xfrm flipV="1">
            <a:off x="2743200" y="2900520"/>
            <a:ext cx="938160" cy="1900080"/>
          </a:xfrm>
          <a:prstGeom prst="line">
            <a:avLst/>
          </a:prstGeom>
          <a:ln w="507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3"/>
          <p:cNvSpPr/>
          <p:nvPr/>
        </p:nvSpPr>
        <p:spPr>
          <a:xfrm flipV="1">
            <a:off x="3657600" y="2361960"/>
            <a:ext cx="1143000" cy="533160"/>
          </a:xfrm>
          <a:prstGeom prst="line">
            <a:avLst/>
          </a:prstGeom>
          <a:ln w="507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4800600" y="2362320"/>
            <a:ext cx="685800" cy="304560"/>
          </a:xfrm>
          <a:prstGeom prst="line">
            <a:avLst/>
          </a:prstGeom>
          <a:ln w="507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5486400" y="2666880"/>
            <a:ext cx="762120" cy="2133720"/>
          </a:xfrm>
          <a:prstGeom prst="line">
            <a:avLst/>
          </a:prstGeom>
          <a:ln w="507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Line 16"/>
          <p:cNvSpPr/>
          <p:nvPr/>
        </p:nvSpPr>
        <p:spPr>
          <a:xfrm>
            <a:off x="6248520" y="4782960"/>
            <a:ext cx="914400" cy="1143000"/>
          </a:xfrm>
          <a:prstGeom prst="line">
            <a:avLst/>
          </a:prstGeom>
          <a:ln w="507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9" name="Object 17"/>
          <p:cNvGraphicFramePr/>
          <p:nvPr/>
        </p:nvGraphicFramePr>
        <p:xfrm>
          <a:off x="6692760" y="5680080"/>
          <a:ext cx="1984680" cy="5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2760" y="5680080"/>
                    <a:ext cx="19846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8"/>
          <p:cNvGraphicFramePr/>
          <p:nvPr/>
        </p:nvGraphicFramePr>
        <p:xfrm>
          <a:off x="420840" y="5568840"/>
          <a:ext cx="1403280" cy="6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840" y="5568840"/>
                    <a:ext cx="14032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Line 19"/>
          <p:cNvSpPr/>
          <p:nvPr/>
        </p:nvSpPr>
        <p:spPr>
          <a:xfrm>
            <a:off x="1981080" y="594360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3125880" y="5256360"/>
            <a:ext cx="215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0+ mil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21"/>
          <p:cNvSpPr/>
          <p:nvPr/>
        </p:nvSpPr>
        <p:spPr>
          <a:xfrm flipH="1">
            <a:off x="4724280" y="1219320"/>
            <a:ext cx="76320" cy="1218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4800600" y="1295280"/>
            <a:ext cx="152280" cy="1143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Line 23"/>
          <p:cNvSpPr/>
          <p:nvPr/>
        </p:nvSpPr>
        <p:spPr>
          <a:xfrm flipV="1">
            <a:off x="1066680" y="1371600"/>
            <a:ext cx="3581640" cy="4038480"/>
          </a:xfrm>
          <a:prstGeom prst="line">
            <a:avLst/>
          </a:prstGeom>
          <a:ln cap="rnd" w="25560">
            <a:solidFill>
              <a:srgbClr val="e5e5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24"/>
          <p:cNvSpPr/>
          <p:nvPr/>
        </p:nvSpPr>
        <p:spPr>
          <a:xfrm>
            <a:off x="4876920" y="1523880"/>
            <a:ext cx="2743200" cy="4038840"/>
          </a:xfrm>
          <a:prstGeom prst="line">
            <a:avLst/>
          </a:prstGeom>
          <a:ln cap="rnd" w="25560">
            <a:solidFill>
              <a:srgbClr val="e5e5ff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25"/>
          <p:cNvSpPr/>
          <p:nvPr/>
        </p:nvSpPr>
        <p:spPr>
          <a:xfrm>
            <a:off x="6400800" y="1981080"/>
            <a:ext cx="2374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Output Fre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145.21 MH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380880" y="2286000"/>
            <a:ext cx="2374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Arial"/>
              </a:rPr>
              <a:t>Input Fre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Arial"/>
              </a:rPr>
              <a:t>144.61 MH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27"/>
          <p:cNvSpPr/>
          <p:nvPr/>
        </p:nvSpPr>
        <p:spPr>
          <a:xfrm flipV="1">
            <a:off x="1219320" y="1523520"/>
            <a:ext cx="3504960" cy="3962520"/>
          </a:xfrm>
          <a:prstGeom prst="line">
            <a:avLst/>
          </a:prstGeom>
          <a:ln w="25560">
            <a:solidFill>
              <a:srgbClr val="ffcc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28"/>
          <p:cNvSpPr/>
          <p:nvPr/>
        </p:nvSpPr>
        <p:spPr>
          <a:xfrm>
            <a:off x="5029200" y="1295280"/>
            <a:ext cx="2895480" cy="4191120"/>
          </a:xfrm>
          <a:prstGeom prst="line">
            <a:avLst/>
          </a:prstGeom>
          <a:ln w="25560">
            <a:solidFill>
              <a:srgbClr val="ffcc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3565440" y="3198960"/>
            <a:ext cx="2068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600 kHz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AutoShape 30"/>
          <p:cNvSpPr/>
          <p:nvPr/>
        </p:nvSpPr>
        <p:spPr>
          <a:xfrm>
            <a:off x="4775040" y="2357280"/>
            <a:ext cx="817560" cy="335160"/>
          </a:xfrm>
          <a:prstGeom prst="rtTriangl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3166-70F2-4414-9AB0-18CDD26A1E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B11 What is the "Q" signal used to indicate that you are changing frequenc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R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S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R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1B48-97DA-4970-9E6D-9CF15EEA9A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B11 What is the "Q" signal used to indicate that you are changing frequenc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R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QSY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S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R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06A6-E152-4445-B371-C12F43439E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C01 What set of rules applies to proper operation of your station when using amateur radio at the request of public service officia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CES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S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CC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MA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1DD8-F6BC-4247-89A2-30D989546A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C01 What set of rules applies to proper operation of your station when using amateur radio at the request of public service officia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CES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S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CC Rule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MA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0536-0947-4BE0-9F63-718313BF61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C02 Who must submit the request for a temporary waiver of Part 97.113 to allow amateur radio operators to provide communications on behalf of their employers during a government sponsored disaster dri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3886200"/>
            <a:ext cx="85341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amateur participating in the dri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y employer participating in the dri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local American Red Cross Chap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government agency sponsoring the ev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1BA2-A60D-47DA-8A49-A9678DD3FD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C02 Who must submit the request for a temporary waiver of Part 97.113 to allow amateur radio operators to provide communications on behalf of their employers during a government sponsored disaster dri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3886200"/>
            <a:ext cx="85341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amateur participating in the dri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y employer participating in the dri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local American Red Cross Chap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he government agency sponsoring the even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6FF7-A50C-4655-9A1D-6BE52842B9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C03 When is it legal for an amateur licensee to provide communications on behalf of their employer during a government sponsored disaster drill or exerci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2971800"/>
            <a:ext cx="853416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ever the employer is a not-for-profit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ever there is a temporary need for the employer's business continuity 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when the FCC has granted a government-requested wai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when the amateur is not receiving compensation from his employer for the ac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A24A-3754-421B-A51B-00861BF833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C03 When is it legal for an amateur licensee to provide communications on behalf of their employer during a government sponsored disaster drill or exerci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2971800"/>
            <a:ext cx="853416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ever the employer is a not-for-profit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ever there is a temporary need for the employer's business continuity 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nly when the FCC has granted a government-requested waiver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when the amateur is not receiving compensation from his employer for the ac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ot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rating Practic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6181-C323-4887-B700-23C7BA2CFC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CES / 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240" y="25146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RACES – Radio Amateur Civil Emergency Service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1" marL="68580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 with local, state and federal government on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ated, you work for the government (Restrict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ated, mission participants are covered by government insu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0600" y="25146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ARES - Amateur Radio Emergency Service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1" marL="68580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lth and welf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 with government and NGO (Red Cross, Salvation Army) and support servic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ated, you still are a civilia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540000" y="5638680"/>
            <a:ext cx="77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 – both groups do good work, and many hams belong to both groups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o both groups are often combined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02" name="Picture 6" descr="FEMA/RACES"/>
          <p:cNvPicPr/>
          <p:nvPr/>
        </p:nvPicPr>
        <p:blipFill>
          <a:blip r:embed="rId1"/>
          <a:stretch/>
        </p:blipFill>
        <p:spPr>
          <a:xfrm>
            <a:off x="762120" y="53352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ares-cl-lrg"/>
          <p:cNvPicPr/>
          <p:nvPr/>
        </p:nvPicPr>
        <p:blipFill>
          <a:blip r:embed="rId2"/>
          <a:stretch/>
        </p:blipFill>
        <p:spPr>
          <a:xfrm>
            <a:off x="6248520" y="380880"/>
            <a:ext cx="22017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4CF2-7BC5-4328-898E-29011E3466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C04 What do RACES and ARES have in comm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represent the two largest ham clubs in the United Sta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th organizations broadcast road and weather traffic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ither may handle emergency traffic supporting public service agenc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th organizations may provide communications during emergenc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ion Setup and Oper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A9EE-35D1-4E73-8987-23785C9880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er Input/Output Off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81080" y="2133360"/>
            <a:ext cx="5181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r" pos="725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and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ffse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981080" y="2514600"/>
            <a:ext cx="5181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 met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MH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met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0 kH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25 met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6 MH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 c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 MH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3 c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 MH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3 c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 MHz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B35A-444B-409E-B8A9-802D1B8B21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C04 What do RACES and ARES have in comm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represent the two largest ham clubs in the United Sta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th organizations broadcast road and weather traffic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ither may handle emergency traffic supporting public service agenc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oth organizations may provide communications during emergencie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0FBE-D26C-4FD3-992D-66CE9A1EDA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C05 What is the Radio Amateur Civil Emergency Servi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emergency radio service organized by amateur operat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adio service using amateur stations for emergency management or civil defense commun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adio service organized to provide communications at civic ev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adio service organized by amateur operators to assist non-military pers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BADD-F9C5-4738-80F9-EC7DF9939E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C05 What is the Radio Amateur Civil Emergency Servi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emergency radio service organized by amateur operat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 radio service using amateur stations for emergency management or civil defense communication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adio service organized to provide communications at civic ev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adio service organized by amateur operators to assist non-military pers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475E-B7B3-4F75-9451-EB19A96167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C06 Which of the following is common practice during net operations to get the immediate attention of the net control station when reporting an emergenc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eat the words SOS three times followed by the call sign of the reporting s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s the push-to-talk button three ti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gin your transmission with "Priority" or "Emergency" followed by your call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y a pre-recorded emergency alert tone followed by your call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755C-6DF8-48C9-9881-BECEF3CEB5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C06 Which of the following is common practice during net operations to get the immediate attention of the net control station when reporting an emergenc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eat the words SOS three times followed by the call sign of the reporting s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s the push-to-talk button three ti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egin your transmission with "Priority" or "Emergency" followed by your call sig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y a pre-recorded emergency alert tone followed by your call 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B6A1-79BD-4BD6-BD4E-7F6A5570A1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C07 What should you do to minimize disruptions to an emergency traffic net once you have checked 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ever the net frequency is quiet, announce your call sign and 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e 5 kHz away from the net's frequency and use high power to ask other hams to keep clear of the net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not transmit on the net frequency until asked to do so by the net control s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it until the net frequency is quiet, then ask for any emergency traffic for your ar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7184-C757-4C2A-B061-84CD111939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C07 What should you do to minimize disruptions to an emergency traffic net once you have checked 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ever the net frequency is quiet, announce your call sign and 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e 5 kHz away from the net's frequency and use high power to ask other hams to keep clear of the net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o not transmit on the net frequency until asked to do so by the net control sta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it until the net frequency is quiet, then ask for any emergency traffic for your ar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A01E-1168-472E-8AB8-D2156808DF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C08 What is usually considered to be the most important job of an amateur operator when handling emergency traffic messag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ssing messages exactly as written, spoken or as recei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imating the number of people affected by the disas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cating messages to the news media for broadcast outside the disaster ar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adcasting emergency information to the general publ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E4E2-7ABE-44CA-B427-2328BBB510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C08 What is usually considered to be the most important job of an amateur operator when handling emergency traffic messag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assing messages exactly as written, spoken or as received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imating the number of people affected by the disas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cating messages to the news media for broadcast outside the disaster ar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adcasting emergency information to the general publ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79C7-826B-49E5-B35A-45AC44E313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C09 When may an amateur station use any means of radio communications at its disposal for essential communications in connection with immediate safety of human life and protection of proper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2971800"/>
            <a:ext cx="853416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when FEMA authorizes it by declaring an emerg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normal communications systems are not avail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when RACES authorizes it by declaring an emerg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when authorized by the local MARS program dir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0019-DAEA-4F18-A264-6F9A3042FD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A01 What is the most common repeater frequency offset in the 2 meter ba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us 5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us or minus 6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us 5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plus 6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4BB6-9002-4DF5-B9D7-E6F21B2CCC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C09 When may an amateur station use any means of radio communications at its disposal for essential communications in connection with immediate safety of human life and protection of proper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2971800"/>
            <a:ext cx="853416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when FEMA authorizes it by declaring an emerg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When normal communications systems are not available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when RACES authorizes it by declaring an emerg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when authorized by the local MARS program dir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4243-B234-4459-8E20-230B49DE32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C10 What is the preamble in a formal traffic mess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irst paragraph of the message 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message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iority handling indicator for the mess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information needed to track the message as it passes through the amateur radio traffic handling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378C-F700-4996-8517-9B82F948AE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C10 What is the preamble in a formal traffic mess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irst paragraph of the message 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message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iority handling indicator for the mess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he information needed to track the message as it passes through the amateur radio traffic handling system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5B38-2541-44CC-89CB-2AE9514C97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C11 What is meant by the term "check" in reference to a formal traffic mess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heck is a count of the number of words or word equivalents in the text portion of the mess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heck is the value of a money order attached to the mess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heck is a list of stations that have relayed the mess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heck is a box on the message form that tells you the message was recei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F138-4E1E-48B8-A279-16293ADC51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C11 What is meant by the term "check" in reference to a formal traffic mess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he check is a count of the number of words or word equivalents in the text portion of the message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heck is the value of a money order attached to the mess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heck is a list of stations that have relayed the mess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heck is a box on the message form that tells you the message was recei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BD02-6F7B-47CF-AA20-F9E7701EDC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ELEMENT T2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[3 exam questions – 3 groups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Picture 3" descr="MicroHAMS"/>
          <p:cNvPicPr/>
          <p:nvPr/>
        </p:nvPicPr>
        <p:blipFill>
          <a:blip r:embed="rId1"/>
          <a:stretch/>
        </p:blipFill>
        <p:spPr>
          <a:xfrm>
            <a:off x="1752480" y="3657600"/>
            <a:ext cx="553248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D401-9923-4239-8F55-39BC1DD8E9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A01 What is the most common repeater frequency offset in the 2 meter ba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us 5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lus or minus 600 kHz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us 5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plus 6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47F6-CB6D-46A3-A802-9B91C8DB04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hams 2010 Technici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2A02 What is the national calling frequency for FM simplex operations in the 70 cm ba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6.520 M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5.000 M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32.100 M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46.000 M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05:34:48Z</dcterms:created>
  <dc:creator>Scott Honaker</dc:creator>
  <dc:description/>
  <dc:language>en-US</dc:language>
  <cp:lastModifiedBy>William J Harding</cp:lastModifiedBy>
  <dcterms:modified xsi:type="dcterms:W3CDTF">2010-10-02T06:02:56Z</dcterms:modified>
  <cp:revision>9</cp:revision>
  <dc:subject/>
  <dc:title>T2A01 What is the most common repeater frequency offset in the 2 meter band?</dc:title>
</cp:coreProperties>
</file>