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D40B8-A19F-4C59-82C9-1AEF941FF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A9FEA-7748-4653-B55A-E8C0A341DDC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10 Technician Class (Element 2) Master syllab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eased 1 February,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96 questions in 35 s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slides are free to use and are available from http://www.microhams.com.  Changes are allowed if Microhams branding is left in place (feel free to ad your own).  Any content additions should be forwarded to the author, Scott N7SS at N7SS@arrl.net so they can be rolled into future versions and available for every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A4C41-BD37-4C5D-95D9-F2469446BDA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microham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ated by Scott N7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B0814-8404-470D-A5F5-5909EE3526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4920" y="4182840"/>
            <a:ext cx="8534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AAF75-97E8-43DC-B6D2-E1BF56568B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41644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7840" y="2057400"/>
            <a:ext cx="41644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04920" y="4182840"/>
            <a:ext cx="41644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7840" y="4182840"/>
            <a:ext cx="41644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0D907-E63B-40E2-896B-280AF62F84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27478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90680" y="2057400"/>
            <a:ext cx="27478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76080" y="2057400"/>
            <a:ext cx="27478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04920" y="4182840"/>
            <a:ext cx="27478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90680" y="4182840"/>
            <a:ext cx="27478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76080" y="4182840"/>
            <a:ext cx="27478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043A3-655C-49AD-B1FB-2DB9BED75B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6DF192-F264-4240-B36E-C9DC9070F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1EE843-A5FC-480C-AFA2-DA4B7DBEC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182E68-EE19-4B04-A0D4-64F71CA9E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416448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7840" y="2057400"/>
            <a:ext cx="416448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523294-3444-4A84-BEDE-97B3F95C8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6BA495-2893-45D5-80D8-3C877C716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4920" y="304920"/>
            <a:ext cx="853416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E0461C-8FD5-4042-995E-14E62C691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41644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7840" y="2057400"/>
            <a:ext cx="416448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4182840"/>
            <a:ext cx="41644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4321CE-08FE-45B1-AB7C-6C7C5BC7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1419A-A86A-43E0-8B47-5E40D29B55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416448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7840" y="2057400"/>
            <a:ext cx="41644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7840" y="4182840"/>
            <a:ext cx="41644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89C93B-BEA2-433F-AE6B-ADFDE01F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41644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7840" y="2057400"/>
            <a:ext cx="41644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4920" y="4182840"/>
            <a:ext cx="8534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42FF48-CA8B-4878-8DF5-0CD5105D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4920" y="4182840"/>
            <a:ext cx="8534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C32159-AF8C-4C67-8FAE-1C680F4B6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41644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7840" y="2057400"/>
            <a:ext cx="41644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4920" y="4182840"/>
            <a:ext cx="41644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7840" y="4182840"/>
            <a:ext cx="41644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0A4600-EC0B-4815-A076-E9F331A38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27478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90680" y="2057400"/>
            <a:ext cx="27478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6080" y="2057400"/>
            <a:ext cx="27478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4920" y="4182840"/>
            <a:ext cx="27478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90680" y="4182840"/>
            <a:ext cx="27478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6080" y="4182840"/>
            <a:ext cx="27478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9782F1-6295-4F06-9B86-221AFC9BA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C8EB2-EC54-48F7-8D5A-2473D4F53A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416448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840" y="2057400"/>
            <a:ext cx="416448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FC805-9B24-4A91-A225-4FE5BAEAD1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5B61E-6544-4C5A-A894-2D37EE69B0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304920" y="304920"/>
            <a:ext cx="853416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AF960-FA15-4C82-A50F-E931E5BF95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41644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2057400"/>
            <a:ext cx="416448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182840"/>
            <a:ext cx="41644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88317-16DC-4B45-AAB6-148DF7DFB5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416448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7840" y="2057400"/>
            <a:ext cx="41644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7840" y="4182840"/>
            <a:ext cx="41644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6BFAC-CE33-4E27-A97C-6C67F2C5B5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41644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2057400"/>
            <a:ext cx="41644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182840"/>
            <a:ext cx="8534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205E6-64B1-4E8C-B0A6-B1A70D6B69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8964C-603B-4FB3-A971-8C1AFF36F3F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" name="Group 4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8" name="Freeform 10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0" name="PlaceHolder 2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04560" y="6248160"/>
            <a:ext cx="5715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body"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0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1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2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6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pic>
        <p:nvPicPr>
          <p:cNvPr id="58" name="Picture 16" descr="MicroHAMS"/>
          <p:cNvPicPr/>
          <p:nvPr/>
        </p:nvPicPr>
        <p:blipFill>
          <a:blip r:embed="rId2"/>
          <a:stretch/>
        </p:blipFill>
        <p:spPr>
          <a:xfrm>
            <a:off x="4876920" y="5562720"/>
            <a:ext cx="3551040" cy="6332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4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5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99768-DD10-4615-A540-FC87E37C5AA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SUBELEMENT T7</a:t>
            </a:r>
            <a:br>
              <a:rPr sz="3600"/>
            </a:b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[4 Exam Questions - 4 Groups]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85800" y="27428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tion equipment, common transmitter and receiver problems, antenna measurements and troubleshooting, basic repair and testing.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7A04 What circuit is pictured in Figure T7, if block 1 is a frequency discriminat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double-conversion receiv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regenerative receiv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superheterodyne receiv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D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An FM receiver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7A05 What is the function of block 1 if figure T4 is a simple CW transmitt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actance modu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duct detec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w-pass fil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scil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7A05 What is the function of block 1 if figure T4 is a simple CW transmitt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actance modu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duct detec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w-pass fil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D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Oscillator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7A06 What device takes the output of a low-powered 28 MHz SSB exciter and produces a 222 MHz output signa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-pass fil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w-pass fil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ver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hase conver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7A06 What device takes the output of a low-powered 28 MHz SSB exciter and produces a 222 MHz output signa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-pass fil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w-pass fil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Transverter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hase conver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7A07 If figure T5 represents a transceiver in which block 1 is the transmitter portion and block 3 is the receiver portion, what is the function of block 2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balanced modu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transmit-receive swit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power amplifi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high-pass fil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7A07 If figure T5 represents a transceiver in which block 1 is the transmitter portion and block 3 is the receiver portion, what is the function of block 2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balanced modu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B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A transmit-receive switch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power amplifi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high-pass fil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7A08 Which of the following circuits combines a speech signal and an RF carri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t frequency oscil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crimin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du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ise blank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7A08 Which of the following circuits combines a speech signal and an RF carri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t frequency oscil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crimin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Modulator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ise blank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7A09 Which of the following devices is most useful for VHF weak-signal communic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quarter-wave vertical antenn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multi-mode VHF transceiv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omni-directional antenn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mobile VHF FM transceiv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1A01D-279D-4366-88A4-B5482A2B9C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304920" y="624852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hams 2010 Technicia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7 – Station Equipment and Troubleshoo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7A –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Station radios; receivers, transmitters, transceiver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7B –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Common transmitter and receiver problems; symptoms of overload and overdrive, distortion, interference, over and under modulation, RF feedback, off frequency signals; fading and noise; problems with digital communications interfac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7C –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ntenna measurements and troubleshooting; measuring SWR, dummy loads, feed line failure mod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7D –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Basic repair and testing; soldering, use of a voltmeter, ammeter, and ohmmeter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7A09 Which of the following devices is most useful for VHF weak-signal communic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quarter-wave vertical antenn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B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A multi-mode VHF transceiver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omni-directional antenn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mobile VHF FM transceiv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7A10 What device increases the low-power output from a handheld transceiv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voltage divid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RF power amplifi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impedance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voltage regu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7A10 What device increases the low-power output from a handheld transceiv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voltage divid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B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An RF power amplifier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impedance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voltage regu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7A11 Which of the following circuits demodulates FM signal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crimin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duct detec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hase inver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7A11 Which of the following circuits demodulates FM signal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B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Discriminator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duct detec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hase inver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7A12 Which term describes the ability of a receiver to discriminate between multiple signal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uning r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nsitiv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lectiv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ise flo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7A12 Which term describes the ability of a receiver to discriminate between multiple signal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uning r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nsitiv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Selectivity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ise flo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7A13 Where is an RF preamplifier install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tween the antenna and receiv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the output of the transmitter's power amplifi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tween a transmitter and antenna tu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the receiver's audio outpu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7A13 Where is an RF preamplifier install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Between the antenna and receiver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the output of the transmitter's power amplifi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tween a transmitter and antenna tu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the receiver's audio outpu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7B01 What can you do if you are told your FM handheld or mobile transceiver is over devia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lk louder into the micropho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t the transceiver cool of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nge to a higher power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lk farther away from the micropho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7A01 What is the function of a product detect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tect phase modulated sign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modulate FM sign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tect CW and SSB sign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bine speech and RF sign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7B01 What can you do if you are told your FM handheld or mobile transceiver is over devia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lk louder into the micropho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t the transceiver cool of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nge to a higher power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D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Talk farther away from the microphone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7B02 What is meant by fundamental overload in reference to a receiv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o much voltage from the power supp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o much current from the power supp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ference caused by very strong sign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ference caused by turning the volume up too hig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7B02 What is meant by fundamental overload in reference to a receiv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o much voltage from the power supp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o much current from the power supp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Interference caused by very strong signal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ference caused by turning the volume up too hig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7B03 Which of the following may be a cause of radio frequency interferen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ndamental overloa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rmonic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urious emiss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 of these choices are corre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7B03 Which of the following may be a cause of radio frequency interferen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ndamental overloa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rmonic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urious emiss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D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All of these choices are correct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7B04 What is the most likely cause of interference to a non-cordless telephone from a nearby transmitt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rmonics from the transmit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telephone is inadvertently acting as a radio receiv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or station groun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roper transmitter adjust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7B04 What is the most likely cause of interference to a non-cordless telephone from a nearby transmitt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rmonics from the transmit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B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The telephone is inadvertently acting as a radio receiver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or station groun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roper transmitter adjust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7B05 What is a logical first step when attempting to cure a radio frequency interference problem in a nearby telephon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2819160"/>
            <a:ext cx="853416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tall a low-pass filter at the transmit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tall a high-pass filter at the transmit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tall an RF filter at the telepho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rove station groun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7B05 What is a logical first step when attempting to cure a radio frequency interference problem in a nearby telephon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2895480"/>
            <a:ext cx="853416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tall a low-pass filter at the transmit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tall a high-pass filter at the transmit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Install an RF filter at the telephone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rove station groun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7B06 What should you do first if someone tells you that your station's transmissions are interfering with their radio or TV recep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ke sure that your station is functioning properly and that it does not cause interference to your own televi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mediately turn off your transmitter and contact the nearest FCC office for assist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ll them that your license gives you the right to transmit and nothing can be done to reduce the interfere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e operating normally because your equipment cannot possibly cause any interfere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7A01 What is the function of a product detect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tect phase modulated sign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modulate FM sign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Detect CW and SSB signal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bine speech and RF sign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7B06 What should you do first if someone tells you that your station's transmissions are interfering with their radio or TV recep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Make sure that your station is functioning properly and that it does not cause interference to your own televis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886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mediately turn off your transmitter and contact the nearest FCC office for assist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86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ll them that your license gives you the right to transmit and nothing can be done to reduce the interfere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86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e operating normally because your equipment cannot possibly cause any interfere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7B07 Which of the following may be useful in correcting a radio frequency interference proble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2819160"/>
            <a:ext cx="853416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nap-on ferrite chok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w-pass and high-pass fil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d-reject and band-pass fil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 of these choices are corre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7B07 Which of the following may be useful in correcting a radio frequency interference proble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2971800"/>
            <a:ext cx="853416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nap-on ferrite chok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w-pass and high-pass fil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d-reject and band-pass fil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D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All of these choices are correct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7B08 What should you do if a "Part 15" device in your neighbor's home is causing harmful interference to your amateur st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2361960"/>
            <a:ext cx="853416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ork with your neighbor to identify the offending devi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litely inform your neighbor about the rules that require him to stop using the device if it causes interfere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eck your station and make sure it meets the standards of good amateur practi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 of these choices are corre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7B08 What should you do if a "Part 15" device in your neighbor's home is causing harmful interference to your amateur st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ork with your neighbor to identify the offending devi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litely inform your neighbor about the rules that require him to stop using the device if it causes interfere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eck your station and make sure it meets the standards of good amateur practi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D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All of these choices are correct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7B09 What could be happening if another operator reports a variable high-pitched whine on the audio from your mobile transmitt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2971800"/>
            <a:ext cx="853416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r microphone is picking up noise from an open windo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have the volume on your receiver set too hig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need to adjust your squelch contro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ise on the vehicle's electrical system is being transmitted along with your speech audi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7B09 What could be happening if another operator reports a variable high-pitched whine on the audio from your mobile transmitt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2971800"/>
            <a:ext cx="853416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r microphone is picking up noise from an open windo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have the volume on your receiver set too hig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need to adjust your squelch contro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D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Noise on the vehicle's electrical system is being transmitted along with your speech audio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7B10 What might be the problem if you receive a report that your audio signal through the repeater is distorted or unintelligibl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3200040"/>
            <a:ext cx="8534160" cy="29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r transmitter may be slightly off frequ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r batteries may be running lo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could be in a bad lo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 of these choices are corre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7B10 What might be the problem if you receive a report that your audio signal through the repeater is distorted or unintelligibl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2971800"/>
            <a:ext cx="853416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r transmitter may be slightly off frequ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r batteries may be running lo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could be in a bad lo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D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All of these choices are correct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7B11 What is a symptom of RF feedback in a transmitter or transceiv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cessive SWR at the antenna conne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transmitter will not stay on the desired frequ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ports of garbled, distorted, or unintelligible transmiss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equent blowing of power supply fus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7A02 What type of receiver is shown in Figure T6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rect conver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per-regenerativ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-conversion superheterody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ual-conversion superheterody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7B11 What is a symptom of RF feedback in a transmitter or transceiv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cessive SWR at the antenna conne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transmitter will not stay on the desired frequ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Reports of garbled, distorted, or unintelligible transmission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equent blowing of power supply fus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7B12 What does the acronym "BER" mean when applied to digital communications system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3123720"/>
            <a:ext cx="8534160" cy="30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ud Enhancement Recove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ud Error Remov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t Error R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t Exponent Resour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7B12 What does the acronym "BER" mean when applied to digital communications system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2971800"/>
            <a:ext cx="853416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ud Enhancement Recove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ud Error Remov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Bit Error Rate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t Exponent Resour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7C01 What is the primary purpose of a dummy loa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prevent the radiation of signals when making tes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prevent over-modulation of your transmit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improve the radiation from your antenn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improve the signal to noise ratio of your receiv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7C01 What is the primary purpose of a dummy loa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To prevent the radiation of signals when making test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prevent over-modulation of your transmit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improve the radiation from your antenn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improve the signal to noise ratio of your receiv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7C02 Which of the following instruments can be used to determine if an antenna is resonant at the desired operating frequenc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VTV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antenna analyz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"Q" me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frequency coun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7C02 Which of the following instruments can be used to determine if an antenna is resonant at the desired operating frequenc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2895480"/>
            <a:ext cx="853416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VTV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B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An antenna analyzer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"Q" me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frequency coun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7C03 What, in general terms, is standing wave ratio (SWR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2514600"/>
            <a:ext cx="853416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measure of how well a load is matched to a transmission 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ratio of high to low impedance in a feed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transmitter efficiency rati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indication of the quality of your station's ground conne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7C03 What, in general terms, is standing wave ratio (SWR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2514600"/>
            <a:ext cx="853416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A measure of how well a load is matched to a transmission line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ratio of high to low impedance in a feed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transmitter efficiency rati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indication of the quality of your station's ground conne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7C04 What reading on an SWR meter indicates a perfect impedance match between the antenna and the feedlin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2895480"/>
            <a:ext cx="853416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 to 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 to 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 to 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 to 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7A02 What type of receiver is shown in Figure T6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rect conver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per-regenerativ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Single-conversion superheterodyne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ual-conversion superheterody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7C04 What reading on an SWR meter indicates a perfect impedance match between the antenna and the feedlin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2895480"/>
            <a:ext cx="853416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 to 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 to 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1 to 1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 to 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7C05 What is the approximate SWR value above which the protection circuits in most solid-state transmitters begin to reduce transmitter pow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3200040"/>
            <a:ext cx="8534160" cy="29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 to 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 to 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 to 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 to 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7C05 What is the approximate SWR value above which the protection circuits in most solid-state transmitters begin to reduce transmitter pow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920" y="2895480"/>
            <a:ext cx="853416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2 to 1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 to 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 to 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 to 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7C06 What does an SWR reading of 4:1 mea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antenna loss of 4 dB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good impedance mat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antenna gain of 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impedance mismat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7C06 What does an SWR reading of 4:1 mea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antenna loss of 4 dB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good impedance mat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antenna gain of 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D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An impedance mismatch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7C07 What happens to power lost in a feedlin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t increases the SW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t comes back into your transmitter and could cause dama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t is converted into he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t can cause distortion of your sign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7C07 What happens to power lost in a feedlin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t increases the SW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t comes back into your transmitter and could cause dama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It is converted into heat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t can cause distortion of your sign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7C08 What instrument other than an SWR meter could you use to determine if a feedline and antenna are properly match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3200040"/>
            <a:ext cx="8534160" cy="29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oltme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hmme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ambic pentame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rectional wattme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7C08 What instrument other than an SWR meter could you use to determine if a feedline and antenna are properly match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3276360"/>
            <a:ext cx="8534160" cy="28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oltme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hmme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ambic pentame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D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Directional wattmeter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7C09 Which of the following is the most common cause for failure of coaxial cabl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2819160"/>
            <a:ext cx="853416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isture contamin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amma ray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velocity factor exceeds 1.0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loa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7A03 What is the function of a mixer in a superheterodyne receiv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reject signals outside of the desired passba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combine signals from several stations togeth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shift the incoming signal to an intermediate frequ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connect the receiver with an auxiliary device, such as a TN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7C09 Which of the following is the most common cause for failure of coaxial cabl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2895480"/>
            <a:ext cx="853416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Moisture contamin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amma ray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velocity factor exceeds 1.0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loa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7C10 Why should the outer jacket of coaxial cable be resistant to ultraviolet ligh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violet resistant jackets prevent harmonic radi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violet light can increase losses in the cable's jack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violet and RF signals can mix together, causing interfere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violet light can damage the jacket and allow water to enter the ca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7C10 Why should the outer jacket of coaxial cable be resistant to ultraviolet ligh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violet resistant jackets prevent harmonic radi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violet light can increase losses in the cable's jack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violet and RF signals can mix together, causing interfere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D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Ultraviolet light can damage the jacket and allow water to enter the cable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7C11 What is a disadvantage of "air core" coaxial cable when compared to foam or solid dielectric typ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t has more loss per foo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t cannot be used for VHF or UHF antenna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t requires special techniques to prevent water absorp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t cannot be used at below freezing temper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7C11 What is a disadvantage of "air core" coaxial cable when compared to foam or solid dielectric typ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t has more loss per foo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t cannot be used for VHF or UHF antenna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It requires special techniques to prevent water absorp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t cannot be used at below freezing temper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7D01 Which instrument would you use to measure electric potential or electromotive for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amme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voltme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waveme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ohmme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7D01 Which instrument would you use to measure electric potential or electromotive for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amme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B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A voltmeter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waveme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ohmme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7D02 What is the correct way to connect a voltmeter to a circui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series with the circu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parallel with the circu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quadrature with the circu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phase with the circu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7D02 What is the correct way to connect a voltmeter to a circui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series with the circu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B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In parallel with the circuit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quadrature with the circu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phase with the circu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7D03 How is an ammeter usually connected to a circui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series with the circu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parallel with the circu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quadrature with the circu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phase with the circu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7A03 What is the function of a mixer in a superheterodyne receiv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reject signals outside of the desired passba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combine signals from several stations togeth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To shift the incoming signal to an intermediate frequency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connect the receiver with an auxiliary device, such as a TN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7D03 How is an ammeter usually connected to a circui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In series with the circuit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parallel with the circu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quadrature with the circu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phase with the circu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7D04 Which instrument is used to measure electric curr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2361960"/>
            <a:ext cx="853416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ohmme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waveme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voltme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amme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7D04 Which instrument is used to measure electric curr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2514600"/>
            <a:ext cx="853416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ohmme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waveme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voltme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D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An ammeter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7D05 What instrument is used to measure resistan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2514600"/>
            <a:ext cx="853416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oscilloscop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spectrum analyz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noise brid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ohmme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7D05 What instrument is used to measure resistan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2514600"/>
            <a:ext cx="853416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oscilloscop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spectrum analyz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noise brid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D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An ohmmeter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7D06 Which of the following might damage a multimet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asuring a voltage too small for the chosen sca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ving the meter in the milliamps position overnigh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tempting to measure voltage when using the resistance set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 allowing it to warm up proper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7D06 Which of the following might damage a multimet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asuring a voltage too small for the chosen sca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ving the meter in the milliamps position overnigh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Attempting to measure voltage when using the resistance sett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 allowing it to warm up proper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7D07 Which of the following measurements are commonly made using a multimet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2971800"/>
            <a:ext cx="853416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WR and RF pow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gnal strength and noi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edance and react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oltage and resist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7D07 Which of the following measurements are commonly made using a multimet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2895480"/>
            <a:ext cx="853416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WR and RF pow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gnal strength and noi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edance and react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D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Voltage and resistance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7D08 Which of the following types of solder is best for radio and electronic us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id-core sold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lver sold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sin-core sold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uminum sold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7A04 What circuit is pictured in Figure T7, if block 1 is a frequency discriminat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double-conversion receiv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regenerative receiv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superheterodyne receiv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FM receiv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7D08 Which of the following types of solder is best for radio and electronic us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id-core sold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lver sold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Rosin-core solder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uminum sold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7D09 What is the characteristic appearance of a "cold" solder joi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rk black spo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bright or shiny surfa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grainy or dull surfa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greenish ti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7D09 What is the characteristic appearance of a "cold" solder joi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rk black spo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bright or shiny surfa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A grainy or dull surface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greenish ti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7D10 What is probably happening when an ohmmeter, connected across a circuit, initially indicates a low resistance and then shows increasing resistance with tim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ohmmeter is defectiv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circuit contains a large capaci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circuit contains a large induc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circuit is a relaxation oscil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7D10 What is probably happening when an ohmmeter, connected across a circuit, initially indicates a low resistance and then shows increasing resistance with tim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ohmmeter is defectiv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B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The circuit contains a large capacitor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circuit contains a large induc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circuit is a relaxation oscil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7D11 Which of the following precautions should be taken when measuring circuit resistance with an ohmmet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sure that the applied voltages are corre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sure that the circuit is not powe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sure that the circuit is ground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sure that the circuit is operating at the correct frequ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7D11 Which of the following precautions should be taken when measuring circuit resistance with an ohmmet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sure that the applied voltages are corre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B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Ensure that the circuit is not powered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sure that the circuit is ground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sure that the circuit is operating at the correct frequ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619A1-F263-4977-B2FD-533B843DC7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2" name="Footer Placeholder 4"/>
          <p:cNvSpPr/>
          <p:nvPr/>
        </p:nvSpPr>
        <p:spPr>
          <a:xfrm>
            <a:off x="304920" y="624852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hams 2010 Technicia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ELEMENT T7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4 exam questions – 4 groups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Picture 3" descr="MicroHAMS"/>
          <p:cNvPicPr/>
          <p:nvPr/>
        </p:nvPicPr>
        <p:blipFill>
          <a:blip r:embed="rId1"/>
          <a:stretch/>
        </p:blipFill>
        <p:spPr>
          <a:xfrm>
            <a:off x="1752480" y="3657600"/>
            <a:ext cx="5532480" cy="9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5T06:13:20Z</dcterms:created>
  <dc:creator>Scott Honaker</dc:creator>
  <dc:description/>
  <dc:language>en-US</dc:language>
  <cp:lastModifiedBy>Scott Honaker</cp:lastModifiedBy>
  <dcterms:modified xsi:type="dcterms:W3CDTF">2010-11-13T06:07:45Z</dcterms:modified>
  <cp:revision>6</cp:revision>
  <dc:subject/>
  <dc:title>T7A01 What is the function of a product detector?</dc:title>
</cp:coreProperties>
</file>