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14AE-14AD-4ECE-A2C3-9C354912D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B4D-6534-499D-888B-BD08A17441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 Technician Class (Element 2) Master sylla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eased 1 February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96 questions in 35 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lides are free to use and are available from http://www.microhams.com.  Changes are allowed if Microhams branding is left in place (feel free to ad your own).  Any content additions should be forwarded to the author, Scott N7SS at N7SS@arrl.net so they can be rolled into future versions and available for every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2AF6-F38F-44AF-9793-9A2D377F01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icroham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Scott N7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10C6-8B25-4FCC-8F15-6B72C7214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D75A-E0D5-4F08-9FD7-1DD328623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51AF-8EBC-4AEF-A377-996C85895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67DB-1CF8-47AD-8BA9-16082B599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2C9DB-DAF6-437D-B2A1-F53F68EE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0287C-1919-4E1E-A724-26673233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103F7-41FB-47AE-8C2F-FD692F12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E3EB9-2B23-43AE-A4BC-CF1C6C59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2F4E1-AFC7-43D1-BAC0-DFD0972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5341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1BD90-C4D8-4888-B8A9-31698591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425D0-5C6B-4632-9EED-2A3C52A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2BA9-D4CA-4780-AD27-67C8E8109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10122-4B3B-4B33-A7A2-14FDC697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9018C-11ED-46E8-B467-A60404E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1AC4A-072F-4EF0-91B6-2004E0E4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D48E3-4E76-4BBF-8732-A68A6331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06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60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06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60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91EC8-6196-482D-8409-3A320009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DDBD-5D8D-4478-A430-0174885F2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8A41-19A1-4D75-BA1B-0B3460A07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FB32-FD4A-4275-A6E9-017FEC1B3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5341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088B-0426-4115-AE4E-BCB56656D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26EA-4F2E-472F-BEA3-A32D63BD5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B50E-B1C5-4386-A25E-ACAA234F0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7AD1-16B9-413B-B9CF-739C1096C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5B38-4E69-46AA-BA9E-8899D7A78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Group 4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560" y="6248160"/>
            <a:ext cx="571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58" name="Picture 16" descr="MicroHAMS"/>
          <p:cNvPicPr/>
          <p:nvPr/>
        </p:nvPicPr>
        <p:blipFill>
          <a:blip r:embed="rId2"/>
          <a:stretch/>
        </p:blipFill>
        <p:spPr>
          <a:xfrm>
            <a:off x="4876920" y="5562720"/>
            <a:ext cx="3551040" cy="63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70BE-F438-44DE-8CB0-F010383EC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UBELEMENT T6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[4 Exam Questions - 4 Groups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ELEMENT T6 – Electrical Components, semiconductors, circuit diagrams, component function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4 What electrical component stores energy in an electric fie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paci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5 What type of electrical component consists of two or more conductive surfaces separated by an insul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5 What type of electrical component consists of two or more conductive surfaces separated by an insul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paci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6 What type of electrical component stores energy in a magnetic fie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6 What type of electrical component stores energy in a magnetic fie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duc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7 What electrical component is usually composed of a coil of w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7 What electrical component is usually composed of a coil of w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duc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8 What electrical component is used to connect or disconnect electrical circu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ner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8 What electrical component is used to connect or disconnect electrical circu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ner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witc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9 What electrical component is used to protect other circuit components from current overloa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5913-208C-42DF-9B68-CB64965D64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6 – Electrical 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6A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lectrical components, fixed and variable resistors, capacitors, and inductors; fuses, switches, batteri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6B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emiconductors; basic principles of diodes and transistor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6C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ircuit diagrams; schematic symbol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6D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mponent function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9 What electrical component is used to protect other circuit components from current overloa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us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10 What is the nominal voltage of a fully charged nickel-cadmium c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0 vo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 vo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5 vo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 vo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10 What is the nominal voltage of a fully charged nickel-cadmium c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0 vo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.2 vol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5 vo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 vo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11 Which battery type is not recharge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ckel-cadmi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-zin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-ac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hium-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11 Which battery type is not recharge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ckel-cadmi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rbon-zinc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-ac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hium-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1 What class of electronic components is capable of using a voltage or current signal to control current fl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1 What class of electronic components is capable of using a voltage or current signal to control current fl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nsistor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2 What electronic component allows current to flow in only one dire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n El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2 What electronic component allows current to flow in only one dire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iod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n El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3 Which of these components can be used as an electronic switch or amplifi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1 What electrical component is used to oppose the flow of current in a DC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3 Which of these components can be used as an electronic switch or amplifi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n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4 Which of these components is made of three layers of semiconductor mater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polar junction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tagrid con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4 Which of these components is made of three layers of semiconductor mater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ipolar junction tran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tagrid con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5 Which of the following electronic components can amplify sign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lytic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cell batt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5 Which of the following electronic components can amplify sign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n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lytic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cell batt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6 How is a semiconductor diode's cathode lead usually identifi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With the word “cathod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a stri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the letter "C"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6 How is a semiconductor diode's cathode lead usually identified? A. With the word "cathode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With the word “cathod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ith a strip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the letter "C"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7 What does the abbreviation "LED" stand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Emission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ght Emitting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quid Emission Det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 Echo D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7 What does the abbreviation "LED" stand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Emission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ight Emitting Diod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quid Emission Det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 Echo D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8 What does the abbreviation "FET" stand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 Effect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t Electron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Electron Tran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 Emission Thick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1 What electrical component is used to oppose the flow of current in a DC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8 What does the abbreviation "FET" stand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eld Effect Tran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t Electron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Electron Tran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 Emission Thick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09 What are the names of the two electrodes of a dio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and min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 and dr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de and cath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 and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09 What are the names of the two electrodes of a dio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and min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 and dr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ode and cathod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 and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10 Which semiconductor component has an emitter electro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polar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 effect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icon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 rect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10 Which semiconductor component has an emitter electro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ipolar tran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 effect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icon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 rect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11 Which semiconductor component has a gate electro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polar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 effect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icon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 rect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11 Which semiconductor component has a gate electro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polar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eld effect tran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icon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 rect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B12 What is the term that describes a transistor's ability to amplify a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ward resis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ward voltage dr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resis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B12 What is the term that describes a transistor's ability to amplify a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ai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ward resis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ward voltage dr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resis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1 What is the name for standardized representations of components in an electrical wiring diagra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 dep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y ske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ematic symb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nent callo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2 What type of component is often used as an adjustable volume contr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xed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1 What is the name for standardized representations of components in an electrical wiring diagra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 dep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y ske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chematic symbo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nent callo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2 What is component 1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2 What is component 1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3 What is component 2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la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3 What is component 2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n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la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4 What is component 3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 symb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4 What is component 3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amp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 symb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5 What is component 4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 symb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5 What is component 4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atter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 symb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6 What is component 6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ulator 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2 What type of component is often used as an adjustable volume contr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xed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tentiomet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6 What is component 6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paci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ulator 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7 What is component 8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ulator 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ght emitting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7 What is component 8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ulator 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ight emitting diod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8 What is component 9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8 What is component 9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ariable resis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09 What is component 4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ble-pole swi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09 What is component 4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ble-pole swit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nsform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10 What is component 3 in figure T3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10 What is component 3 in figure T3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ariable induc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11 What is component 4 in figure T3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mmy lo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3 What electrical parameter is controlled by a potentio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 str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11 What is component 4 in figure T3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tenn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mit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mmy lo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12 What do the symbols on an electrical circuit schematic diagram repres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 sta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c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ffic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12 What do the symbols on an electrical circuit schematic diagram repres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lectrical componen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 sta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c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ffic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C13 Which of the following is accurately represented in electrical circuit schematic diagra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 length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appearance of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y components are interconn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C13 Which of the following is accurately represented in electrical circuit schematic diagra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 length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appearance of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way components are interconnecte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1 Which of the following devices or circuits changes an alternating current into a varying direct current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t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1 Which of the following devices or circuits changes an alternating current into a varying direct current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ctifi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2 What best describes a rel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witch controlled by an electromag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urrent controlled 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ptical sens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ss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2 What best describes a rel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switch controlled by an electromagne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urrent controlled amplif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ptical sens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ss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3 What type of switch is represented by item 3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-pole single-th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-pole double-th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ble-pole single-th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ble-pole double-th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A03 What electrical parameter is controlled by a potentio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sistanc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 str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3 What type of switch is represented by item 3 in figure T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ingle-pole single-throw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-pole double-th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ble-pole single-th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ble-pole double-th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4 Which of the following can be used to display signal strength on a numeric sca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4 Which of the following can be used to display signal strength on a numeric sca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et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5 What type of circuit controls the amount of voltage from a power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u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in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5 What type of circuit controls the amount of voltage from a power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gula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cil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inve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6 What component is commonly used to change 120V AC house current to a lower AC voltage for other u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6 What component is commonly used to change 120V AC house current to a lower AC voltage for other u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nsform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7 Which of the following is commonly used as a visual indic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ner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polar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7 Which of the following is commonly used as a visual indic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E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ner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polar tran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8 Which of the following is used together with an inductor to make a tuned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ner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A04 What electrical component stores energy in an electric fie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8 Which of the following is used together with an inductor to make a tuned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s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ner di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pacito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09 What is the name of a device that combines several semiconductors and other components into one pack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duc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pol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ed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09 What is the name of a device that combines several semiconductors and other components into one pack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duc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pol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tegrated circui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10 What is the function of component 2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off light when current flows through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electrical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the flow of curr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t electrical energy into radio wa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10 What is the function of component 2 in Figure T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off light when current flows through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electrical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ntrol the flow of curren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t electrical energy into radio wa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6D11 Which of the following is a common use of coaxial c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y dc power from a vehicle battery to a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y RF signals between a radio and anten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e masts, tubing, and other cylindrical objects on tow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 data signals from a TNC to a compu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6D11 Which of the following is a common use of coaxial c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y dc power from a vehicle battery to a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rry RF signals between a radio and antenn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e masts, tubing, and other cylindrical objects on tow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 data signals from a TNC to a compu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6549-5CCE-43EA-8DBC-2F8F5CC01B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ELEMENT T6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4 exam questions – 4 group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MicroHAMS"/>
          <p:cNvPicPr/>
          <p:nvPr/>
        </p:nvPicPr>
        <p:blipFill>
          <a:blip r:embed="rId1"/>
          <a:stretch/>
        </p:blipFill>
        <p:spPr>
          <a:xfrm>
            <a:off x="1752480" y="3657600"/>
            <a:ext cx="55324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6:05:12Z</dcterms:created>
  <dc:creator>Scott Honaker</dc:creator>
  <dc:description/>
  <dc:language>en-US</dc:language>
  <cp:lastModifiedBy>Scott Honaker</cp:lastModifiedBy>
  <dcterms:modified xsi:type="dcterms:W3CDTF">2010-11-13T06:12:23Z</dcterms:modified>
  <cp:revision>6</cp:revision>
  <dc:subject/>
  <dc:title>T6A01 What electrical component is used to oppose the flow of current in a DC circuit?</dc:title>
</cp:coreProperties>
</file>